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1371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137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137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8284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8284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137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137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137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137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137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1371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609480" y="380880"/>
            <a:ext cx="830592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763120" y="228600"/>
            <a:ext cx="0" cy="61722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152280"/>
            <a:ext cx="2667240" cy="381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XML-D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Verdana"/>
              </a:rPr>
              <a:t>XML-DTD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34290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inführung in die Syntax d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ML Document Type Defin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59436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efan Heyman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ittelberger GmbH, Reutlingen, www.kittelberger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685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twickler-Konferenz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ek2000_logo" descr=""/>
          <p:cNvPicPr/>
          <p:nvPr/>
        </p:nvPicPr>
        <p:blipFill>
          <a:blip r:embed="rId1"/>
          <a:stretch/>
        </p:blipFill>
        <p:spPr>
          <a:xfrm>
            <a:off x="6629400" y="609480"/>
            <a:ext cx="1905120" cy="9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TD-Dekla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Eine DTD kann beliebige Kommentare und PIs enthal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Externe DTDs sollten mit einer „Text Declaration“ beginn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/>
          <p:nvPr/>
        </p:nvSpPr>
        <p:spPr>
          <a:xfrm>
            <a:off x="1144800" y="4419720"/>
            <a:ext cx="6124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&lt;?xml version="1.0" encoding="UTF-8" 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Interne DTD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Der interne Teil der DTD steht in [eckigen Klammern]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Er ist op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Seine Deklarationen überschreiben bzw. ergänzen diejenigen der externen DT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5320" y="2895480"/>
            <a:ext cx="606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Verdana"/>
              </a:rPr>
              <a:t>Bausteine der DT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TD-Baustein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Mögliche </a:t>
            </a: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Elem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Anordnung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 der Elemente (Schachtelung, Reihenfolge, Anzahl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Attribute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 der Elem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Entities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 (Textbaustein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Elemen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/>
          <p:nvPr/>
        </p:nvSpPr>
        <p:spPr>
          <a:xfrm>
            <a:off x="664920" y="1174680"/>
            <a:ext cx="7861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lt;!ELEMENT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name inhalt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MPTY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lement ist immer l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NY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liebiger In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#PCDATA)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ur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#PCDATA | e1 | e2)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ur Text oder e1 oder 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e1, e2|e3, e4*, e5+, e6?|e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eispi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!ELEMENT br EMP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!ELEMENT absatz AN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!ELEMENT header (#PCDATA)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!ELEMENT buyer (name, address+, phone?)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Attribu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Zu jedem Element wird definiert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elche Attribute es gibt (Nam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atentyp der Attribu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efault-Wert der Attribu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"/>
          <p:cNvSpPr/>
          <p:nvPr/>
        </p:nvSpPr>
        <p:spPr>
          <a:xfrm>
            <a:off x="759240" y="4419720"/>
            <a:ext cx="548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lt;!ATTLIST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elemen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name typ default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gt;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Attribute: Type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1026720" y="1828800"/>
            <a:ext cx="758736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DATA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liebiger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D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in XML-Bezeich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DREF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zug auf im Dokument vorhandene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DREF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ehrere IDREF‘s, durch [SP] getren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TITY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ame einer 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TITIE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ehrere ENTITY‘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MTOKEN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ehrere Name-Token (1 2 3 4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um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ufzählung (left | right | top | bott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OTATION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uflistung von Notations-Na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Attribute: Defaul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'default'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rekte Angabe des Defaul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#REQUIRED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ttribut </a:t>
            </a:r>
            <a:r>
              <a:rPr b="0" i="1" lang="de-DE" sz="2400" spc="-1" strike="noStrike">
                <a:solidFill>
                  <a:srgbClr val="000000"/>
                </a:solidFill>
                <a:latin typeface="Verdana"/>
              </a:rPr>
              <a:t>mus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ang. wer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#IMPLIED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fault-Wert wird v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pplikation eingesetz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#FIXED 'xxx'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s darf nur der angegeben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rt verwendet wer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Attribute: Beispie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&lt;!ATTLIST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absat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align (top|center|bottom) 'top'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halign (left|cntr|right|block) #IMPLI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borderleft NMTOKEN '0'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&lt;!ATTLIST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im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rc CDATA #REQUI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alt CDATA 'Image not found'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Entit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Entities sind Textbauste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Vom einzelnen Zeichen bis zum kompletten externen Doku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Aufruf durch  </a:t>
            </a:r>
            <a:r>
              <a:rPr b="1" lang="de-DE" sz="3200" spc="-1" strike="noStrike">
                <a:solidFill>
                  <a:srgbClr val="ff0000"/>
                </a:solidFill>
                <a:latin typeface="Courier New"/>
              </a:rPr>
              <a:t>&amp;</a:t>
            </a:r>
            <a:r>
              <a:rPr b="1" lang="de-DE" sz="3200" spc="-1" strike="noStrike">
                <a:solidFill>
                  <a:srgbClr val="3333cc"/>
                </a:solidFill>
                <a:latin typeface="Courier New"/>
              </a:rPr>
              <a:t>name</a:t>
            </a:r>
            <a:r>
              <a:rPr b="1" lang="de-DE" sz="3200" spc="-1" strike="noStrike">
                <a:solidFill>
                  <a:srgbClr val="ff00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Inhalt wird in der DTD definie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Schachtelung mögli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mgebungsbedingunge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önnen Sie mich hören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umtemperatur, Lüftung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y au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önne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s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i Fragen: fragen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schwätz schwäbis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Entities: Syntax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lt;!ENTITY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name "inhalt"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lt;!ENTITY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name SYSTEM "extern.xml"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lt;!ENTITY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name SYSTEM "img.gif" NDATA gif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eispie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lt;!ENTITY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versionno '1.0.1'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lt;!ENTITY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datum "2000-09-27"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lt;!ENTITY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einleitung SYSTEM "./einl.xml"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lt;!ENTITY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ver "&amp;versionno; &amp;datum; &amp;build;"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Parameter-Entit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Sonderfall der Ent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Können nur innerhalb der DTD referenziert werd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Wiederverwendung von DTD-Teil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Eigener Namensra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Eingeleitet durch Prozent-Zeich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Parameter-Entit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kla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lt;!ENTITY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400" spc="-1" strike="noStrike">
                <a:solidFill>
                  <a:srgbClr val="3333cc"/>
                </a:solidFill>
                <a:latin typeface="Courier New"/>
              </a:rPr>
              <a:t>% generalattr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"id ID #IMPLIED"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Referen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lt;!ATTRLIST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p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h-align (l|c|r|b) 'b'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2400" spc="-1" strike="noStrike">
                <a:solidFill>
                  <a:srgbClr val="3333cc"/>
                </a:solidFill>
                <a:latin typeface="Courier New"/>
              </a:rPr>
              <a:t>%generalattr;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Parsed/Unparsed Entit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Entities werden unterschieden i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Parsed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E.: Ersetzungstext ist X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Unparsed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E.: kein XML (Bilder, Videos, Textverarbeitungs-Dokumente, usw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Unparsed E. bekommen eine </a:t>
            </a: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Notation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 zugewiesen (=Typ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Conditional Sec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Nur in externen DT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Abschnitte können ein- und ausgeblendet werd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Schachtelung mögli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682920" y="4572000"/>
            <a:ext cx="566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lt;![INCLUDE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[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400" spc="-1" strike="noStrike">
                <a:solidFill>
                  <a:srgbClr val="808080"/>
                </a:solidFill>
                <a:latin typeface="Courier New"/>
              </a:rPr>
              <a:t>deklarationen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]]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&lt;![IGNORE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[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400" spc="-1" strike="noStrike">
                <a:solidFill>
                  <a:srgbClr val="808080"/>
                </a:solidFill>
                <a:latin typeface="Courier New"/>
              </a:rPr>
              <a:t>deklarationen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</a:rPr>
              <a:t>]]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52352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30400" y="5670720"/>
            <a:ext cx="60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klaration als Parameter Entity 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980080" y="2895480"/>
            <a:ext cx="286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Verdana"/>
              </a:rPr>
              <a:t>Ausblick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TD Ausblick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Probleme bei DTD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u wenig Möglichkeit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z. B. keine Bereichs-Eingrenzu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eine XML-Syntax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eigener Parser erforderlich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Mögliche Lösung: XML-SCHEMA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Viel mehr Optione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XML-Syntax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Hohe Komplexität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Kein fertiger Stand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744280" y="2743200"/>
            <a:ext cx="350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Fragen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723040" y="2971800"/>
            <a:ext cx="31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&lt;/talk&gt;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halts-Übersich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TD 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– was ist da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Dekla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Bausteine der DT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Ausbli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83640" y="3048120"/>
            <a:ext cx="5900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Verdana"/>
              </a:rPr>
              <a:t>DTD </a:t>
            </a:r>
            <a:r>
              <a:rPr b="1" lang="de-DE" sz="5000" spc="-1" strike="noStrike">
                <a:solidFill>
                  <a:srgbClr val="000000"/>
                </a:solidFill>
                <a:latin typeface="Verdana"/>
              </a:rPr>
              <a:t>– was ist da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T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XML definiert selbst keine Tags, Attribute oder Ent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chtig für den Austausch von XML-Instanze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inhaltung gleicher Konventio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wendete Elem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truktur des Dok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TD = Syntax zur Festlegung solcher Konventio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üfung der Einhaltung der DTD durch „Validating Parser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T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DTD = Document Type Defin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Definiert den </a:t>
            </a:r>
            <a:r>
              <a:rPr b="0" i="1" lang="de-DE" sz="3200" spc="-1" strike="noStrike">
                <a:solidFill>
                  <a:srgbClr val="000000"/>
                </a:solidFill>
                <a:latin typeface="Verdana"/>
              </a:rPr>
              <a:t>Typ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 der XML-Applik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Erst die DTD beschreibt eine spezielle XML-Anwendung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26840" y="2895480"/>
            <a:ext cx="5464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Verdana"/>
              </a:rPr>
              <a:t>DTD-Deklara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TD-Dekla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Eine DTD steht am Anfang des XML-Dokuments in der </a:t>
            </a:r>
            <a:r>
              <a:rPr b="0" i="1" lang="de-DE" sz="3200" spc="-1" strike="noStrike">
                <a:solidFill>
                  <a:srgbClr val="000000"/>
                </a:solidFill>
                <a:latin typeface="Verdana"/>
              </a:rPr>
              <a:t>Document Type Decla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Besteht aus speziellem Marku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DTD kann außerhalb des Dokuments liegen [External DTD]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Alternativ/zusätzlich dazu Deklarationen im Dokument selb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TD-Dekla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700560" y="1708200"/>
            <a:ext cx="765396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&lt;!DOCTYPE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name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de-DE" sz="2000" spc="-1" strike="noStrike">
                <a:solidFill>
                  <a:srgbClr val="808080"/>
                </a:solidFill>
                <a:latin typeface="Courier New"/>
              </a:rPr>
              <a:t>...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]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&lt;!DOCTYPE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name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SYSTEM "externe.dtd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de-DE" sz="2000" spc="-1" strike="noStrike">
                <a:solidFill>
                  <a:srgbClr val="808080"/>
                </a:solidFill>
                <a:latin typeface="Courier New"/>
              </a:rPr>
              <a:t>...interne Deklarationen...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]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&lt;!DOCTYPE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name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PUBLIC "publicid" "externe.dtd"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&gt;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96400" y="4952880"/>
            <a:ext cx="357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ach dem XML-Pro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or dem In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6T17:09:26Z</dcterms:created>
  <dc:creator>Stefan Heymann</dc:creator>
  <dc:description/>
  <dc:language>en-US</dc:language>
  <cp:lastModifiedBy>Heymann</cp:lastModifiedBy>
  <dcterms:modified xsi:type="dcterms:W3CDTF">2000-09-27T22:28:22Z</dcterms:modified>
  <cp:revision>29</cp:revision>
  <dc:subject/>
  <dc:title>XML-Grundlagen</dc:title>
</cp:coreProperties>
</file>